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36B2-E112-4F7E-8548-9BE0DC7A7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5F02-5B98-4858-AFE3-1318D1B6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5872-940D-4170-85E6-1DB542DA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372E-F6B8-4B80-BB15-638727C68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21BE-DABD-466C-A57C-1DC8A347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5CC7-7A52-428C-ACAC-23B10DA7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4C93-07B8-4EB1-A4CB-E69ADFF8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F2C1-77C0-4BBB-BBD4-11E23417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4805-9B85-45FD-998D-060745A8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138A-7093-4CA7-9DD4-A13296DE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586D-D3C1-461D-9C73-873E808B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D2E7-7287-42AD-A3B4-2D9E8050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7032-0C88-4155-B1DD-F96D1EB9E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12.xml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slide9.xml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slide6.xml"/><Relationship Id="rId17" Type="http://schemas.openxmlformats.org/officeDocument/2006/relationships/slide" Target=""/><Relationship Id="rId18" Type="http://schemas.openxmlformats.org/officeDocument/2006/relationships/slide" Target="slide15.xml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slide3.xml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.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1828800"/>
            <a:ext cx="1981080" cy="25146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4800600" y="2057400"/>
            <a:ext cx="1295280" cy="17524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6200" y="259092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468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1640" y="434340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920" y="16002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hadow of Dwight howard 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5 feet long, he stands at 6.8 feet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basketball hoop next to hi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 10 feet tall, how long is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hado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.7647058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map has a scale of 1in:250 miles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two cities are 1,250 miles apart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far on the map are they ap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1447920"/>
            <a:ext cx="52578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29000" y="2971800"/>
            <a:ext cx="8380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14960" y="255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97960" y="331776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2320" y="167652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8320" y="106668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dog is 2 feet tall, he has a shadow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feet, next to him is a f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ydrant, the FH is 1 foot tall,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s a shadow of .5 feet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f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obe Bryant shot 25 times in a gam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 made 11 baskets, the next g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 shot 30 times, how man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skets did he ma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½ x 26/52 = 26/104= 1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2362320"/>
            <a:ext cx="1524240" cy="16761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19720" y="1371600"/>
            <a:ext cx="1143000" cy="1447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3505320"/>
            <a:ext cx="609840" cy="6858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3080" y="4648320"/>
            <a:ext cx="30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nes are simi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7600" y="289548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73880" y="278460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36000" y="400356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02880" y="270828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8520" y="17524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15520" y="167652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68000" y="350532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720" y="35812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9240" y="41911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orge leans two ladders again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wall, the first ladder is 8 feet l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is 4 feet away from the wall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7 feet long, how fa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way from the wall is i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30492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5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0"/>
            <a:ext cx="1752480" cy="9471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ilar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a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8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1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3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4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7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8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0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a man drives for 4 hours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oes 120 miles, how man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urs will it take him to go 100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i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333333333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.5 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0200" y="2057400"/>
            <a:ext cx="2666880" cy="17524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2666880"/>
            <a:ext cx="1828800" cy="11430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93200" y="225108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11960" y="377496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45880" y="278460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43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ck is 6 ft tall, and has a shad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f 20 ft long, the school ca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shadow that is 200 ft long, h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all is the build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takes 15 cups of flower to ma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 cookies, how many cook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make with 20 cu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cook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2133720"/>
            <a:ext cx="35812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3886200"/>
            <a:ext cx="22096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64600" y="156528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72920" y="388620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720" y="464832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6744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building casts a 50 ft shad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is 25 ft tall, a tree next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building casts a 10 ft shad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tall is the t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ft t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costs $1,200 dollars for a 2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ssenger trip to florida, how mu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it for 5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3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Noelle Schad</cp:lastModifiedBy>
  <cp:lastPrinted>2001-01-31T16:21:13Z</cp:lastPrinted>
  <dcterms:modified xsi:type="dcterms:W3CDTF">2012-02-27T02:16:14Z</dcterms:modified>
  <cp:revision>59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