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  <p:custShowLst>
    <p:custShow name="(1.1)" id="0">
      <p:sldLst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1B9-F63E-4605-9CEF-7025E47C1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693E-6685-428A-8EA6-C50560D72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0F3F-73E6-448B-B812-7C31E216C8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62FB-FFB7-4F81-9912-E214E442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D6718-9E5C-4052-ACFD-81A243788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EF75-7201-4172-B2BB-2189D8D8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0051-69A5-4AEA-B764-4DDE09CF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4ED9-B9EB-442D-8409-CBBD3B74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DB09-066E-4E16-9440-C59F3E6BF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709D-4232-4799-A92F-373A4CE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F3CC-3D35-4F11-9445-34C5651E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2D4F-507C-4650-B657-D35DE4F57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BC94-C7BF-4E88-AF75-072D61CF9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slide12.xml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slide9.xml"/><Relationship Id="rId11" Type="http://schemas.openxmlformats.org/officeDocument/2006/relationships/slide" Target=""/><Relationship Id="rId12" Type="http://schemas.openxmlformats.org/officeDocument/2006/relationships/slide" Target=""/><Relationship Id="rId13" Type="http://schemas.openxmlformats.org/officeDocument/2006/relationships/slide" Target=""/><Relationship Id="rId14" Type="http://schemas.openxmlformats.org/officeDocument/2006/relationships/slide" Target=""/><Relationship Id="rId15" Type="http://schemas.openxmlformats.org/officeDocument/2006/relationships/slide" Target=""/><Relationship Id="rId16" Type="http://schemas.openxmlformats.org/officeDocument/2006/relationships/slide" Target="slide6.xml"/><Relationship Id="rId17" Type="http://schemas.openxmlformats.org/officeDocument/2006/relationships/slide" Target=""/><Relationship Id="rId18" Type="http://schemas.openxmlformats.org/officeDocument/2006/relationships/slide" Target="slide15.xml"/><Relationship Id="rId19" Type="http://schemas.openxmlformats.org/officeDocument/2006/relationships/slide" Target=""/><Relationship Id="rId20" Type="http://schemas.openxmlformats.org/officeDocument/2006/relationships/slide" Target=""/><Relationship Id="rId21" Type="http://schemas.openxmlformats.org/officeDocument/2006/relationships/slide" Target="slide3.xml"/><Relationship Id="rId2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R.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33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33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057400" y="1828800"/>
            <a:ext cx="1981080" cy="25146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0800000">
            <a:off x="4800600" y="2057400"/>
            <a:ext cx="1295280" cy="17524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6200" y="25909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4680" y="274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1640" y="43434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920" y="160020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" action="ppaction://hlinksldjump"/>
          </p:cNvPr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shadow of Dwight howard i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25 feet long, he stands at 6.8 fee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basketball hoop next to hi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s 10 feet tall, how long is th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dow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.7647058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1" action="ppaction://hlinksldjump"/>
          </p:cNvPr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map has a scale of 1in:250 miles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f two cities are 1,250 miles apart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ow far on the map are they apar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57400" y="1447920"/>
            <a:ext cx="52578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29000" y="2971800"/>
            <a:ext cx="8380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414960" y="2556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97960" y="33177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72320" y="16765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658320" y="10666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" action="ppaction://hlinksldjump"/>
          </p:cNvPr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dog is 2 feet tall, he has a shadow of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X feet, next to him is a fi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ydrant, the FH is 1 foot tall,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as a shadow of .5 feet.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f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Kobe Bryant shot 25 times in a game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made 11 baskets, the next gam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e shot 30 times,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askets did he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1" action="ppaction://hlinksldjump"/>
          </p:cNvPr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½ x 26/52 = 26/104= 1/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2362320"/>
            <a:ext cx="1524240" cy="167616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1371600"/>
            <a:ext cx="1143000" cy="144792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324480" y="3505320"/>
            <a:ext cx="609840" cy="6858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3080" y="4648320"/>
            <a:ext cx="300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ch ones are simi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7600" y="28954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73880" y="278460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836000" y="400356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02880" y="270828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8520" y="17524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115520" y="16765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868000" y="350532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720" y="358128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9240" y="4191120"/>
            <a:ext cx="82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eorge leans two ladders agains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wall, the first ladder is 8 feet lo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nd is 4 feet away from the wall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 2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is 7 feet long, how far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way from the wall is it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30492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5 fe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75e76"/>
            </a:gs>
            <a:gs pos="100000">
              <a:srgbClr val="33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7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0"/>
            <a:ext cx="1752480" cy="9471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milar fig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76920" y="380880"/>
            <a:ext cx="1600200" cy="5205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a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8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9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1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>
            <a:hlinkClick r:id="rId1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13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14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rId15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17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8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19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20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193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f a man drives for 4 hours and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Goes 120 miles, how many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urs will it take him to go 100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mi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333333333 h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2.5 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00200" y="2057400"/>
            <a:ext cx="2666880" cy="175248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76920" y="2666880"/>
            <a:ext cx="1828800" cy="1143000"/>
          </a:xfrm>
          <a:prstGeom prst="rtTriangl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93200" y="225108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911960" y="377496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645880" y="27846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24376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Rick is 6 ft tall, and has a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f 20 ft long, the school cas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 shadow that is 200 ft long, h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ll is the building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0 f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takes 15 cups of flower to m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3 cookies, how many cook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n you make with 20 cup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cook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2133720"/>
            <a:ext cx="35812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62520" y="3886200"/>
            <a:ext cx="220968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64600" y="1565280"/>
            <a:ext cx="9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172920" y="3886200"/>
            <a:ext cx="5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572720" y="4648320"/>
            <a:ext cx="7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 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67440" y="2098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 building casts a 50 ft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nd is 25 ft tall, a tree next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 building casts a 10 ft shadow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w tall is the tre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 ft t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 costs $1,200 dollars for a 2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ssenger trip to florida, how mu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s it for 5 peop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$3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03T22:24:04Z</dcterms:created>
  <dc:creator>Jerry Myers</dc:creator>
  <dc:description>Created by Jerry Myers is 1998 for a class.</dc:description>
  <dc:language>en-US</dc:language>
  <cp:lastModifiedBy>Noelle Schad</cp:lastModifiedBy>
  <cp:lastPrinted>2001-01-31T16:21:13Z</cp:lastPrinted>
  <dcterms:modified xsi:type="dcterms:W3CDTF">2012-02-27T02:16:14Z</dcterms:modified>
  <cp:revision>59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