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7A12-FDDF-46B5-BB5B-A558BB117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EE09-999D-4379-B341-BD42F7069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B084-BA58-450C-AF7A-E71D1BB32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BE4C-C6B0-44C6-85A2-4DE8EBDB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CD00-51A1-454F-A39F-C235C4F14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28C4-E9AE-49F4-A938-DFE56F15C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3BE1-0989-481A-9E04-736F2D2ED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5D34-6699-4E2E-AA71-C13B9515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BAF9-E9D1-41A0-B37D-8E9170DDA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8C248-7EDC-43CF-9BDA-D7777D118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68C8-3957-4D07-BC8F-A566C02C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9457-F6C1-4E9A-B117-346A75D38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2D360-DA88-45A3-B665-262DA999AE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12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slide9.xml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6.xml"/><Relationship Id="rId17" Type="http://schemas.openxmlformats.org/officeDocument/2006/relationships/slide" Target=""/><Relationship Id="rId18" Type="http://schemas.openxmlformats.org/officeDocument/2006/relationships/slide" Target="slide15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slide3.xm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.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1828800"/>
            <a:ext cx="1981080" cy="25146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4800600" y="2057400"/>
            <a:ext cx="1295280" cy="17524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6200" y="259092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468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1640" y="434340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920" y="16002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hadow of Dwight howard 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5 feet long, he stands at 6.8 feet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basketball hoop next to h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 10 feet tall, how long is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ado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.7647058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map has a scale of 1in:250 mile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two cities are 1,250 miles apart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far on the map are they ap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1447920"/>
            <a:ext cx="5257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2971800"/>
            <a:ext cx="8380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14960" y="255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7960" y="331776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2320" y="167652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8320" y="106668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dog is 2 feet tall, he has a shadow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feet, next to him is a f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ydrant, the FH is 1 foot tall,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s a shadow of .5 feet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f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obe Bryant shot 25 times in a gam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 made 11 baskets, the next g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 shot 30 times, how man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skets did he m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½ x 26/52 = 26/104= 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2362320"/>
            <a:ext cx="1524240" cy="16761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1371600"/>
            <a:ext cx="1143000" cy="1447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3505320"/>
            <a:ext cx="609840" cy="685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3080" y="4648320"/>
            <a:ext cx="30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nes are simi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7600" y="289548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3880" y="278460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36000" y="400356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02880" y="270828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8520" y="17524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15520" y="167652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68000" y="350532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720" y="35812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9240" y="41911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orge leans two ladders again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wall, the first ladder is 8 feet l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is 4 feet away from the wall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7 feet long, how f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way from the wall is i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0492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5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0"/>
            <a:ext cx="175248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ilar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a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1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3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8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a man drives for 4 hours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oes 120 miles, how man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urs will it take him to go 10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333333333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5 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2057400"/>
            <a:ext cx="2666880" cy="17524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2666880"/>
            <a:ext cx="1828800" cy="11430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93200" y="225108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11960" y="377496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45880" y="278460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43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ck is 6 ft tall, and has a shad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20 ft long, the school c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hadow that is 200 ft long, h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ll is the buil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takes 15 cups of flower to m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 cookies, how many cook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make with 20 cu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cook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2133720"/>
            <a:ext cx="35812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3886200"/>
            <a:ext cx="22096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64600" y="156528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72920" y="388620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720" y="464832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674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building casts a 50 ft shad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is 25 ft tall, a tree next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building casts a 10 ft shad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tall is the t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ft t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costs $1,200 dollars for a 2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ssenger trip to florida, how mu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it for 5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3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Noelle Schad</cp:lastModifiedBy>
  <cp:lastPrinted>2001-01-31T16:21:13Z</cp:lastPrinted>
  <dcterms:modified xsi:type="dcterms:W3CDTF">2012-02-27T02:16:14Z</dcterms:modified>
  <cp:revision>59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