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ACC-7204-44DD-87B3-7AE4DBCB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FD8-A9B3-4B37-94C9-B2AB9CFC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BD9-FDC9-45FE-9C52-1AE0179D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5A3-1A2F-42E9-B1BB-AF173DBA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67F-9D49-43F9-A4C1-27C5E41F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6A4-BC5C-40F8-A4FB-042490A5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BE4-44BF-444E-B0F9-1C0D03E8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097-592B-4A13-BBC2-5950A013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816-EF89-4F54-B633-3A12C907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AA1-C5E6-46A6-B007-0BA3001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470-60B9-4B44-A68A-48E195D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625-7A89-4FDC-A392-2EFF1D1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16B0-E8D9-415C-A0A1-7CACCFF35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9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6.xml"/><Relationship Id="rId17" Type="http://schemas.openxmlformats.org/officeDocument/2006/relationships/slide" Target="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828800"/>
            <a:ext cx="1981080" cy="2514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4800600" y="2057400"/>
            <a:ext cx="1295280" cy="17524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6200" y="25909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46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1640" y="43434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920" y="1600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hadow of Dwight howard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 feet long, he stands at 6.8 fee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asketball hoop next to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10 feet tall, how long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d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.7647058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ap has a scale of 1in:250 mil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wo cities are 1,250 miles apar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far on the map are they a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1447920"/>
            <a:ext cx="5257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2971800"/>
            <a:ext cx="838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496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7960" y="33177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2320" y="167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8320" y="10666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dog is 2 feet tall, he has a shadow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feet, next to him is a f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drant, the FH is 1 foot tall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shadow of .5 fee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obe Bryant shot 25 times in a ga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made 11 baskets, the next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hot 30 times,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kets did he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26/52 = 26/104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362320"/>
            <a:ext cx="1524240" cy="1676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371600"/>
            <a:ext cx="1143000" cy="1447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505320"/>
            <a:ext cx="609840" cy="68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080" y="46483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s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7600" y="28954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3880" y="27846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6000" y="40035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2880" y="27082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8520" y="1752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5520" y="167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8000" y="35053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720" y="3581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924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orge leans two ladders again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wall, the first ladder is 8 feet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is 4 feet away from the w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7 feet long, how f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y from the wall is 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0492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0"/>
            <a:ext cx="175248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ilar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man drives for 4 hour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es 120 miles,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urs will it take him to go 1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33333333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5 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2666880" cy="17524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666880"/>
            <a:ext cx="1828800" cy="1143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93200" y="22510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11960" y="37749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45880" y="27846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43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ck is 6 ft tall, and has a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20 ft long, the school 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adow that is 200 ft long, 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ll is the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takes 15 cups of flower to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cookies, how many coo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make with 20 c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oo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133720"/>
            <a:ext cx="3581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88620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64600" y="15652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920" y="38862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720" y="46483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67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uilding casts a 50 ft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is 25 ft tall, a tree nex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uilding casts a 10 ft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all is the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costs $1,200 dollars for a 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enger trip to florida, how mu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it for 5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2:16:14Z</dcterms:modified>
  <cp:revision>5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