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0AE-17B0-4ED8-9CD4-3127FD9D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0A2-DAE9-4819-816B-82841ACC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2B1-2744-4916-81E9-56E5225A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57A-6001-4177-8DE3-FCF2DE1C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778-C82F-4E71-A781-4785DE17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E6F-DC41-4698-A319-62446843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942-B47B-45F1-9BEE-531D8BD6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55E-A6C5-4B43-9537-948B82A2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241-98C6-4F4D-B233-D360E403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2B1-2B9B-4D83-A5F6-6C40F3FF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7EF-A44F-4493-AAA1-FB015F54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31B-ECE6-4B3C-9D4E-847BC455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9310-7ACD-4FB8-8C36-3EF24BCA2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2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9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6.xml"/><Relationship Id="rId17" Type="http://schemas.openxmlformats.org/officeDocument/2006/relationships/slide" Target=""/><Relationship Id="rId18" Type="http://schemas.openxmlformats.org/officeDocument/2006/relationships/slide" Target="slide15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3.xm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ds on a coin and an even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 six sided d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3/6 = 3/12 =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 class of 120 students, 55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ys, what is the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a girl being pick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ss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120 = 13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picking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en out of a deck of 52 car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2= 1/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ility of picking a 6 on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 sided die, and then picking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on another six sided d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 x 1/6 = 1/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 class of 25, 5 boys are ru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reasurer, what is the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 boy becomes treasurer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rest of the runners are femal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5 = 1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 a pr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mber on a six sided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 = 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heads on a coin, and getting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 card out of a deck of 52 c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26/52 = 26/104=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 store rack are 5 blue shirt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red shirts, and 3 yellow shi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r. D picks up a blue shirt, does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t it back and puts on anot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ue, what was the probabilit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event occur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2 x 4/11= 20/132= 10/66= 5/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0"/>
            <a:ext cx="175248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flipping a co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getting hea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nswers are in fraction 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tting heads on a c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n getting tails on a c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½ = 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ck’s sock drawer has 5 red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 blue, and 14 gree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tting a blue so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 six sided die what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ility of getting a 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ds on a coin and rolling a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a six sided d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1/6 = 1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5 boxes are 10 red hat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 blue hats, 12 green hats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black hats, what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ility of picking a red 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even number on a six sided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 = 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Noelle Schad</cp:lastModifiedBy>
  <cp:lastPrinted>2001-01-31T16:21:13Z</cp:lastPrinted>
  <dcterms:modified xsi:type="dcterms:W3CDTF">2012-02-27T01:56:31Z</dcterms:modified>
  <cp:revision>5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