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EBDA-9FA4-4EA9-ACEA-75400D306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CF81-1500-463D-8E3C-8FBF2303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EE05-CF0B-4AE5-A0AF-C27EE5C0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0A163-1468-4C1D-B606-3F37C2D4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2F54-5DE1-4384-A356-313EDFA4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4FD8-059F-4AEA-B94E-9BF807AD2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1380-C739-4369-A678-2577C07F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C3FB-6024-4FC7-9533-F9A68225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A154-D5F2-4C11-AF02-F18CB19B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7A16E-DB5B-4351-BA1D-E687420F7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50E6F-85E5-4AC3-A4AB-A9B2954D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0BB25-82F4-465B-820E-5715F2F07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2962-3892-4F2F-8A88-A4AEB49AA4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2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slide9.xml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6.xml"/><Relationship Id="rId17" Type="http://schemas.openxmlformats.org/officeDocument/2006/relationships/slide" Target=""/><Relationship Id="rId18" Type="http://schemas.openxmlformats.org/officeDocument/2006/relationships/slide" Target="slide15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slide3.xm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g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eads on a coin and an even numb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a six sided di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½ x 3/6 = 3/12 = 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a class of 120 students, 55 a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oys, what is the prob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a girl being picked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ass presiden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5/120 = 13/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picking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Queen out of a deck of 52 card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52= 1/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ability of picking a 6 on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ix sided die, and then picking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5 on another six sided di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 x 1/6 = 1/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a class of 25, 5 boys are runn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or treasurer, what is the prob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a boy becomes treasurer i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rest of the runners are female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25 = 1/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getting a pri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Number on a six sided d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/6 = 2/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g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heads on a coin, and getting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d card out of a deck of 52 car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½ x 26/52 = 26/104= 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a store rack are 5 blue shirt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red shirts, and 3 yellow shir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r. D picks up a blue shirt, doesn’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ut it back and puts on anothe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Blue, what was the probability of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at event occurr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/12 x 4/11= 20/132= 10/66= 5/3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0"/>
            <a:ext cx="160020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ngle Ev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0"/>
            <a:ext cx="175248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wo ev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1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3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probabil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f flipping a co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getting head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l answers are in fraction for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tting heads on a co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then getting tails on a coi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½ x ½ = 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ick’s sock drawer has 5 red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6 blue, and 14 green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etting a blue sock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/25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On a six sided die what i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ability of getting a 5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/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gett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ads on a coin and rolling a 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n a six sided di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½ x 1/6 = 1/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n 5 boxes are 10 red hats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1 blue hats, 12 green hats,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4 black hats, what is th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robability of picking a red h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/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e probability of get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 even number on a six sided di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/6 = 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Noelle Schad</cp:lastModifiedBy>
  <cp:lastPrinted>2001-01-31T16:21:13Z</cp:lastPrinted>
  <dcterms:modified xsi:type="dcterms:W3CDTF">2012-02-27T01:56:31Z</dcterms:modified>
  <cp:revision>5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