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8E4-1078-4986-A78B-4BA6AB14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41A-3BD1-43C6-9DE2-D619711C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C45-CD9C-427D-8DD8-B15FA68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5C3-3B82-4A70-AC18-A8FD9D7B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242-EA79-4A15-874A-83F687F5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37D-8A30-4217-946B-0208560A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883-5BE7-427A-B537-F2D7369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763-AA4D-4AEF-BD81-47DDF90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4E-7F2A-42C8-AB62-777FA5F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D63-0958-4CA5-916C-01213436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CC0-97F4-4F30-B86F-53349CB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36A-6A22-4F4E-90C3-DB2A373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A371-B9E7-4286-B257-7D976F154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ds on a coin and an even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3/6 = 3/12 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120 students, 55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ys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 girl being pick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120 = 13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en out of a deck of 52 c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2=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6 o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 sided die, and then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on another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25, 5 boys are ru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easurer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 boy becomes treasurer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st of the runners are fema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5 = 1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a pr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 =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eads on a coin, and g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card out of a deck of 52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tore rack are 5 blue shirt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red shirts, and 3 yellow shi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. D picks up a blue shirt, does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t back and puts on an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ue, what was the probabilit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event occur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2 x 4/11= 20/132= 10/66= 5/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flipping a co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etting he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nswers are in fraction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head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n getting tail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½ =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k’s sock drawer has 5 r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blue, and 14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a blue s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getting a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s on a coin and rolling 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1/6 =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5 boxes are 10 red ha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blue hats, 12 green hat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black hats,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red 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ven 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56:31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