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77F4-F709-4B22-BA38-37EAF9338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E9A4-DF1E-4F06-A52F-8FCF73640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9BEF-E84A-4316-874A-0D84E4650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54BC-A48B-4AF2-81BA-DEB576B23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D1A-3331-4950-BA97-F67F10A5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0296-BD20-4523-B69C-32F6A8AA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3806-F536-4CCC-90F8-8AEB96A36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2D91-CE33-4815-A81D-BEB8F1A43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2AFD0-0F59-4D9C-B5CB-EE652AB58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A1FA-811A-401B-8001-2FAC065B0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4CF7-9830-4435-B223-BAB3AF2E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06D6-BF64-4D6E-B0BA-3D4AA63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D8CC-45CE-42D5-B3BC-A2B9E299B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ds on a coin and an even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3/6 = 3/12 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120 students, 55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ys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 girl being pick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120 = 13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en out of a deck of 52 c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2=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6 o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 sided die, and then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on another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25, 5 boys are ru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easurer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 boy becomes treasurer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st of the runners are fema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5 = 1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a pr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 =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eads on a coin, and g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card out of a deck of 52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tore rack are 5 blue shirt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red shirts, and 3 yellow shi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. D picks up a blue shirt, does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t back and puts on an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ue, what was the probabilit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event occur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2 x 4/11= 20/132= 10/66= 5/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flipping a co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etting he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nswers are in fraction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head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n getting tail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½ =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k’s sock drawer has 5 r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blue, and 14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a blue s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getting a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s on a coin and rolling 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1/6 =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5 boxes are 10 red ha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blue hats, 12 green hat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black hats,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red 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ven 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56:31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