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43572-DCF8-4268-9BD1-30374236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175E-EE5A-4529-A879-6FD326934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405F-A216-4606-A306-02C2C373F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26A4-8EBE-4840-9B12-FF6DDDBEC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6E06-B82E-4C13-B487-D42D9B562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89B0-C5A8-4943-B3DA-01710DDE0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D985-FE2D-4DC6-A845-81D55B78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2C24-E434-4657-BD03-35FAE96F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C3BD-51D7-4FF5-8571-4CFB362D7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07007-CB09-49E8-B02E-B0ABA88F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13AA-40E3-49C7-A629-641655DEA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3FBD-E098-4ED1-8504-4FA5C0534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4A37C-AD08-47E4-881D-1970F40E4A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slide8.xml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slide15.xml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slide11.xml"/><Relationship Id="rId15" Type="http://schemas.openxmlformats.org/officeDocument/2006/relationships/slide" Target=""/><Relationship Id="rId16" Type="http://schemas.openxmlformats.org/officeDocument/2006/relationships/slide" Target="slide12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7.xml"/><Relationship Id="rId22" Type="http://schemas.openxmlformats.org/officeDocument/2006/relationships/slide" Target=""/><Relationship Id="rId23" Type="http://schemas.openxmlformats.org/officeDocument/2006/relationships/slide" Target="slide3.xml"/><Relationship Id="rId2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rea of a circle with a radi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1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52.16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ctangle with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a= 2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de b= 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362320"/>
            <a:ext cx="3581280" cy="1218960"/>
          </a:xfrm>
          <a:prstGeom prst="parallelogram">
            <a:avLst>
              <a:gd name="adj" fmla="val 7344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9" name=""/>
          <p:cNvCxnSpPr/>
          <p:nvPr/>
        </p:nvCxnSpPr>
        <p:spPr>
          <a:xfrm>
            <a:off x="4190760" y="2362320"/>
            <a:ext cx="1080" cy="12196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0" name=""/>
          <p:cNvSpPr/>
          <p:nvPr/>
        </p:nvSpPr>
        <p:spPr>
          <a:xfrm>
            <a:off x="3581280" y="35812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057400" y="26668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743200" y="1676520"/>
            <a:ext cx="2819520" cy="2819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0"/>
            <a:endCxn id="116" idx="3"/>
          </p:cNvCxnSpPr>
          <p:nvPr/>
        </p:nvCxnSpPr>
        <p:spPr>
          <a:xfrm>
            <a:off x="4152600" y="1676160"/>
            <a:ext cx="1080" cy="2819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8" name=""/>
          <p:cNvSpPr/>
          <p:nvPr/>
        </p:nvSpPr>
        <p:spPr>
          <a:xfrm>
            <a:off x="1930320" y="22510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876920" y="251460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7600" y="4495680"/>
            <a:ext cx="102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ircumference when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iameter is 2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as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2.8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quare has a Perimeter of 20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length of the s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rectangle has an area of 1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length of 1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widt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triangle has an area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0 feet, and a height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eet, what is the bas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.625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581280" y="2133720"/>
            <a:ext cx="205740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41" idx="2"/>
            <a:endCxn id="141" idx="6"/>
          </p:cNvCxnSpPr>
          <p:nvPr/>
        </p:nvCxnSpPr>
        <p:spPr>
          <a:xfrm>
            <a:off x="3580920" y="3504960"/>
            <a:ext cx="205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3" name=""/>
          <p:cNvSpPr/>
          <p:nvPr/>
        </p:nvSpPr>
        <p:spPr>
          <a:xfrm>
            <a:off x="1216800" y="144792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is the are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4080" y="4724280"/>
            <a:ext cx="201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6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09680" y="152280"/>
            <a:ext cx="2133720" cy="8254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of Quadrilat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724280" y="533520"/>
            <a:ext cx="19814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riang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0880"/>
            <a:ext cx="175284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ir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2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3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8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19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20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22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quare with sides that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t in leng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0 fee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quare with a sid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25 square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riangle that has a base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0 feet, and a height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circle has a radius of 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circumfere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se 3.14 for pi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1.4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parallelogram has 4 side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re 35 feet, 19 feet, 11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5 feet, and has a height of 30 feet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38088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10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rectangle has a length of 2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a width of 25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ight- 24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ase 10 fe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0 feet squ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1:37:57Z</dcterms:modified>
  <cp:revision>5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