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0B3F-23C6-4555-AF05-3FFF03A8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623E-E165-4EE9-A157-BD4592E4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F6FD-858E-4078-A524-1E922830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C15-5C90-4F83-8A45-C427A5ED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48A2-0A26-4CCF-A8B8-D6248F9E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AB3-3E04-4F13-BAD8-11F867C0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D43-702F-4E8C-91B8-1C8ADF7A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8158-49F2-422E-8513-F4F03309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0551-A305-49B8-A5DC-0421A306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644B-5E2D-4BC3-823E-9E72A34E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133-6620-43B3-9D9E-9DB9F214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711D-D6B9-4B42-A11E-83A32814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5235-E3F4-4268-9E88-6BF45F1AF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8.xm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slide15.xm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slide11.xml"/><Relationship Id="rId15" Type="http://schemas.openxmlformats.org/officeDocument/2006/relationships/slide" Target=""/><Relationship Id="rId16" Type="http://schemas.openxmlformats.org/officeDocument/2006/relationships/slide" Target="slide12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slide7.xml"/><Relationship Id="rId22" Type="http://schemas.openxmlformats.org/officeDocument/2006/relationships/slide" Target=""/><Relationship Id="rId23" Type="http://schemas.openxmlformats.org/officeDocument/2006/relationships/slide" Target="slide3.xml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a of a circle with a radi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12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3.14 for p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2.16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ctangle wi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de a= 25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de b= 15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5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362320"/>
            <a:ext cx="3581280" cy="1218960"/>
          </a:xfrm>
          <a:prstGeom prst="parallelogram">
            <a:avLst>
              <a:gd name="adj" fmla="val 734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/>
          <p:nvPr/>
        </p:nvCxnSpPr>
        <p:spPr>
          <a:xfrm>
            <a:off x="4190760" y="2362320"/>
            <a:ext cx="10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3581280" y="35812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2666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1676520"/>
            <a:ext cx="2819520" cy="28191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6" idx="0"/>
            <a:endCxn id="116" idx="3"/>
          </p:cNvCxnSpPr>
          <p:nvPr/>
        </p:nvCxnSpPr>
        <p:spPr>
          <a:xfrm>
            <a:off x="4152600" y="1676160"/>
            <a:ext cx="1080" cy="2819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1930320" y="22510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25146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44956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umference whe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ameter is 20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3.14 as p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.8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quare has a Perimeter of 200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length of the s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rectangle has an area of 1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length of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wid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triangle has an area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 feet, and a heigh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 feet, what is the 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.625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2133720"/>
            <a:ext cx="2057400" cy="2743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2"/>
            <a:endCxn id="141" idx="6"/>
          </p:cNvCxnSpPr>
          <p:nvPr/>
        </p:nvCxnSpPr>
        <p:spPr>
          <a:xfrm>
            <a:off x="3580920" y="3504960"/>
            <a:ext cx="205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1216800" y="144792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ar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4080" y="472428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3.14 for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152280"/>
            <a:ext cx="213372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of Quadrilat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533520"/>
            <a:ext cx="19814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8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9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0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2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quare with sides that a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 ft in leng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fe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quare with a sid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5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5 square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angle that has a bas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 feet, and a height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circle has a radius of 5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circum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3.14 for p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.4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parallelogram has 4 sid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are 35 feet, 19 feet, 11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5 feet, and has a height of 30 fee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3808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rectangle has a length of 2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a width of 25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ight- 24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e 10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Noelle Schad</cp:lastModifiedBy>
  <cp:lastPrinted>2001-01-31T16:21:13Z</cp:lastPrinted>
  <dcterms:modified xsi:type="dcterms:W3CDTF">2012-02-27T01:37:57Z</dcterms:modified>
  <cp:revision>59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