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BE39-ACDD-455F-9170-156905100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C91A-0BEA-41DB-9CE1-BED61A6A1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03E5-2453-438D-B3BE-48D22C478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AA01-89C6-490D-97E5-921016344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2157-575F-4A8A-BD90-F24C8777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FAE8F-3DDF-4A10-8A7D-A08A21FA2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EDBE-C44F-43E0-B7C4-CF002B7E8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8B99-D985-4868-B542-F2CFAAF63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3D29-94FE-461C-BAC5-3D2BEFBBC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3D097-76A6-4A4B-ABF4-CFF6B5327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8547-38DE-4BCC-97C8-EC131109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372D-54A3-4E1A-8216-303E8423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22658-26E1-441E-AB80-1BF0650C7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slide11.xml"/><Relationship Id="rId15" Type="http://schemas.openxmlformats.org/officeDocument/2006/relationships/slide" Target="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7.xml"/><Relationship Id="rId22" Type="http://schemas.openxmlformats.org/officeDocument/2006/relationships/slide" Target="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 of a circle with a rad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2.16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tangle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a=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b= 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362320"/>
            <a:ext cx="3581280" cy="1218960"/>
          </a:xfrm>
          <a:prstGeom prst="parallelogram">
            <a:avLst>
              <a:gd name="adj" fmla="val 734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4190760" y="23623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3581280" y="35812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666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676520"/>
            <a:ext cx="2819520" cy="2819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0"/>
            <a:endCxn id="116" idx="3"/>
          </p:cNvCxnSpPr>
          <p:nvPr/>
        </p:nvCxnSpPr>
        <p:spPr>
          <a:xfrm>
            <a:off x="4152600" y="1676160"/>
            <a:ext cx="1080" cy="281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1930320" y="22510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5146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4956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umference whe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meter is 2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as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.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are has a Perimeter of 20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ength of the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ctangle has an area of 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length of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w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riangle has an ar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feet, and a heigh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what is the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625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133720"/>
            <a:ext cx="205740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41" idx="6"/>
          </p:cNvCxnSpPr>
          <p:nvPr/>
        </p:nvCxnSpPr>
        <p:spPr>
          <a:xfrm>
            <a:off x="3580920" y="350496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216800" y="1447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r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4724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52280"/>
            <a:ext cx="21337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Quadrila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533520"/>
            <a:ext cx="19814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sides that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t in leng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a sid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5 square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that has a bas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and a height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ircle has a radius of 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circum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.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arallelogram has 4 s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re 35 feet, 19 feet, 11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 feet, and has a height of 30 fee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rectangle has a length of 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 width of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ight- 24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 1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37:57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